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E39-35E4-41EE-B2DB-4877FD91C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EA4-5ADB-4F16-97FE-053CFD4A6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6B7-BDEF-4061-8D99-D766DE9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AED-8EBD-435A-815C-7361244B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F47-3F35-41AC-BB2A-4B498C80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EA4-3444-4424-9453-50A75C13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0B0-BA41-43C4-A336-A29A885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7A8-1F2A-43C6-93DF-D4E9967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953-02C6-4D23-B78F-86A6B62A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88D-6009-486A-878B-DDCCE53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86B-FB90-4C4A-B2C0-6B210B9B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A5E-CECC-46B9-8C1F-1D428C8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54C-384D-4074-8888-C019097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E4F-42FF-49E3-B49A-27AAEC5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05D-8656-467F-BAB9-051288BBD3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38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Методы решения прикладных задач по формированию математической грамот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2600" y="4113360"/>
            <a:ext cx="6359760" cy="2393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-36360" y="657360"/>
            <a:ext cx="6264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372360" y="73656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6588000" y="3357720"/>
            <a:ext cx="2160720" cy="574560"/>
          </a:xfrm>
          <a:prstGeom prst="rect">
            <a:avLst/>
          </a:prstGeom>
          <a:solidFill>
            <a:srgbClr val="ff000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"/>
          <p:cNvPicPr/>
          <p:nvPr/>
        </p:nvPicPr>
        <p:blipFill>
          <a:blip r:embed="rId1"/>
          <a:stretch/>
        </p:blipFill>
        <p:spPr>
          <a:xfrm>
            <a:off x="14400" y="260280"/>
            <a:ext cx="8366040" cy="4705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71640" y="515772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219640" y="5425920"/>
            <a:ext cx="2665440" cy="366840"/>
          </a:xfrm>
          <a:prstGeom prst="rect">
            <a:avLst/>
          </a:prstGeom>
          <a:solidFill>
            <a:srgbClr val="ff000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"/>
          <p:cNvPicPr/>
          <p:nvPr/>
        </p:nvPicPr>
        <p:blipFill>
          <a:blip r:embed="rId1"/>
          <a:srcRect l="19617" t="11673" r="3345" b="27992"/>
          <a:stretch/>
        </p:blipFill>
        <p:spPr>
          <a:xfrm>
            <a:off x="0" y="115920"/>
            <a:ext cx="9063000" cy="3990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179280" y="2257560"/>
            <a:ext cx="4105440" cy="268416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971640" y="5048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rcRect l="19617" t="11673" r="3345" b="27992"/>
          <a:stretch/>
        </p:blipFill>
        <p:spPr>
          <a:xfrm>
            <a:off x="0" y="115920"/>
            <a:ext cx="9063000" cy="3990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179280" y="2257560"/>
            <a:ext cx="4105440" cy="2684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971640" y="5048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"/>
          <p:cNvPicPr/>
          <p:nvPr/>
        </p:nvPicPr>
        <p:blipFill>
          <a:blip r:embed="rId1"/>
          <a:srcRect l="19617" t="11673" r="3345" b="27992"/>
          <a:stretch/>
        </p:blipFill>
        <p:spPr>
          <a:xfrm>
            <a:off x="0" y="3240"/>
            <a:ext cx="9063000" cy="3990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108000" y="2205000"/>
            <a:ext cx="4105080" cy="2684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178160" y="765000"/>
            <a:ext cx="4741920" cy="374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213080" y="1003320"/>
            <a:ext cx="47419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горитм решения прикладной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бота с условием задачи (тек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ение, о чём задач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ых слов (понятий, величин) для краткой запис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ение краткой записи числовыми значениями и знаками вопро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ого вопро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оиск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ка ассоциативных связей с математическим учебным материалом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над математической моделью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математической модели (нахождение значения числового выражения, решение уравнения, неравенства или их систем, заполнение таблиц, построение графиков и т.д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вет на вопрос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претация результата, соотнесение с главным вопросом задач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 результата, его реаль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827440" y="174960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27440" y="269568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26920" y="1749600"/>
            <a:ext cx="259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853920" y="1062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7"/>
          <p:cNvSpPr/>
          <p:nvPr/>
        </p:nvSpPr>
        <p:spPr>
          <a:xfrm>
            <a:off x="2604960" y="1378080"/>
            <a:ext cx="0" cy="312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827440" y="105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853920" y="22813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q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822240" y="2790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70120" y="394488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>
            <a:off x="611280" y="3645000"/>
            <a:ext cx="1971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15" descr=""/>
          <p:cNvPicPr/>
          <p:nvPr/>
        </p:nvPicPr>
        <p:blipFill>
          <a:blip r:embed="rId1"/>
          <a:stretch/>
        </p:blipFill>
        <p:spPr>
          <a:xfrm>
            <a:off x="2944800" y="3468600"/>
            <a:ext cx="1419120" cy="96372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6" descr=""/>
          <p:cNvPicPr/>
          <p:nvPr/>
        </p:nvPicPr>
        <p:blipFill>
          <a:blip r:embed="rId2"/>
          <a:stretch/>
        </p:blipFill>
        <p:spPr>
          <a:xfrm>
            <a:off x="5711760" y="1560600"/>
            <a:ext cx="1884600" cy="884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7"/>
          <p:cNvSpPr/>
          <p:nvPr/>
        </p:nvSpPr>
        <p:spPr>
          <a:xfrm>
            <a:off x="5767560" y="2867040"/>
            <a:ext cx="188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9"/>
          <p:cNvSpPr/>
          <p:nvPr/>
        </p:nvSpPr>
        <p:spPr>
          <a:xfrm>
            <a:off x="5419800" y="1378080"/>
            <a:ext cx="0" cy="315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737320" y="3989520"/>
            <a:ext cx="18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Таблица 2" descr=""/>
          <p:cNvPicPr/>
          <p:nvPr/>
        </p:nvPicPr>
        <p:blipFill>
          <a:blip r:embed="rId1"/>
          <a:stretch/>
        </p:blipFill>
        <p:spPr>
          <a:xfrm>
            <a:off x="96840" y="639720"/>
            <a:ext cx="86090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324000" y="549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горитм решения приклад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бота с условием задачи (тек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ение, о чём за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ых слов (понятий, величин) для краткой запис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ение краткой записи числовыми значениями и знаками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ого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оиск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ка ассоциативных связей с математическим учебным материа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над математической модел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математической модели (нахождение значения числового выражения, решение уравнения, неравенства или их систем, заполнение таблиц, построение графиков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вет на вопрос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претация результата, соотнесение с главным вопросом зад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 результата, его ре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кладная 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56400" y="345924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дачи с практическим содерж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69000" y="397188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дачи из окружающей действи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язанные с формированием практически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39840" y="2786040"/>
            <a:ext cx="79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рактико-ориентированные задания и задачи практической направленности (в ЕГЭ и ОГЭ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flipH="1">
            <a:off x="281880" y="47307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дача, требующая перевода с обыденного языка на математиче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 flipH="1">
            <a:off x="1115280" y="1592280"/>
            <a:ext cx="765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а, контекст которой близок к проблемным ситуациям, возникающих в повседневной жизни, и решаемая математическими сред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rcRect l="0" t="0" r="0" b="5175"/>
          <a:stretch/>
        </p:blipFill>
        <p:spPr>
          <a:xfrm>
            <a:off x="0" y="85896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"/>
          <p:cNvPicPr/>
          <p:nvPr/>
        </p:nvPicPr>
        <p:blipFill>
          <a:blip r:embed="rId1"/>
          <a:srcRect l="0" t="0" r="0" b="12675"/>
          <a:stretch/>
        </p:blipFill>
        <p:spPr>
          <a:xfrm>
            <a:off x="214200" y="765000"/>
            <a:ext cx="9099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rcRect l="0" t="0" r="50010" b="93832"/>
          <a:stretch/>
        </p:blipFill>
        <p:spPr>
          <a:xfrm>
            <a:off x="30240" y="189000"/>
            <a:ext cx="396072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779120" y="40464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, 11 класс. Профильны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81080" y="4325760"/>
            <a:ext cx="6359400" cy="2394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163440" y="549360"/>
            <a:ext cx="6913800" cy="3813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81080" y="4325760"/>
            <a:ext cx="6359400" cy="2394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163440" y="549360"/>
            <a:ext cx="6913800" cy="3813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7077240" y="1628640"/>
            <a:ext cx="206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ейс-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инструмент формирования математической грам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2600" y="4113360"/>
            <a:ext cx="6359760" cy="239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-36360" y="657360"/>
            <a:ext cx="626400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048360" y="287280"/>
            <a:ext cx="309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кей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– случай, проблема, история из реально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 ситуации – хронологический, исторический, контекст места, особенности действия или участников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арий ситуации, представленный авт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или задания для работы с кейс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4:53:37Z</dcterms:created>
  <dc:creator>user</dc:creator>
  <dc:description/>
  <dc:language>en-US</dc:language>
  <cp:lastModifiedBy>Венера Праслова</cp:lastModifiedBy>
  <dcterms:modified xsi:type="dcterms:W3CDTF">2025-10-24T11:30:53Z</dcterms:modified>
  <cp:revision>228</cp:revision>
  <dc:subject/>
  <dc:title>Слайд 1</dc:title>
</cp:coreProperties>
</file>